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ACB-7F4B-4F1A-B7A6-B23AF0C3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F80-59D9-4EEE-88CC-6D0E9933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E13-F538-429B-B0A6-5F96B851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F79-9C20-47C4-BDC7-19A00196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674-9A0B-4B28-8648-68813548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9B0-1662-43E2-B257-263F4C1A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A4A-88B5-46E3-B4C1-56823599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835-B5EB-4A97-BE1F-089E8100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47E-3265-497D-9490-0AFFDF3E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354-BF5A-4133-B2AF-B26B2E1D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BDD-4B35-4A14-84ED-F80F793E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098-B3E3-48ED-A20B-EF10FB2A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7A3F-391D-4BF9-AC20-96B80C09B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ngle Congr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eremy Meyer, Justin Slager, Cody Rixford, Keith Bel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uency is where two objects are equal to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ons are congruent when they have the same number of sides, and all corresponding sides and interior angles are congru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Short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, Side, Side (s,s,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, Angle, Side (s,a,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, Side, Angle (s,s,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le, Angle, Side (a,a,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le, Side, Angle (a,s,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, Side,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ree sides of one triangle are congruent to three sides of another triangle, then the two triangles are congru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038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e that the triangles are congruent by the SSS postulate, the three pairs of sides need to be congru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28:57Z</dcterms:created>
  <dc:creator>010158</dc:creator>
  <dc:description/>
  <dc:language>en-US</dc:language>
  <cp:lastModifiedBy>010158</cp:lastModifiedBy>
  <dcterms:modified xsi:type="dcterms:W3CDTF">2008-04-24T16:48:09Z</dcterms:modified>
  <cp:revision>3</cp:revision>
  <dc:subject/>
  <dc:title>Slide 1</dc:title>
</cp:coreProperties>
</file>